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1F733-FB50-4227-8B83-A8BFDE9F4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87600" y="1006560"/>
            <a:ext cx="459576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6A15-196A-48F8-B119-4D6960E81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8C2F-0484-47F8-9242-2ED1694B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0956-6F8A-442E-9995-572A3C623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70BC-D8C5-4A21-B9C3-D573CD7C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0F0D-2181-468D-81B5-B22CA8DA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F7FA-0569-41D4-84CC-E35052BF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AC0A-9799-4458-A51B-FA37CF70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7D89-85AE-49A4-B64E-A7FF42DF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B356-C0AD-4181-A7F3-C65D79E9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A3C8-2B00-4352-B4E0-7FC6B0E5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21A2-6151-4209-AE16-EAC1AB50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CC0F-16AA-4224-BE85-9414029C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E1372D-EF20-4AC8-9BF2-534492C18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1065240"/>
            <a:ext cx="907092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MODWeb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packages, &amp;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al 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3093840"/>
            <a:ext cx="9070920" cy="282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an O'Conn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son Lab, UC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16/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00800" cy="7562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257440" y="2057040"/>
            <a:ext cx="47545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packag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 Fa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4114800"/>
            <a:ext cx="2971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is to build as much in an automated way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13032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336680"/>
            <a:ext cx="9070920" cy="5532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ly focused on CentOS4 RPM packages for the Nelson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oning now to CentOS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packaging Chado DBs using the 1.0 sche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DB with ont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 hg18 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others (mm9, rn4, panTro2, rheMac2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S/2 referenc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al 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paper RPMs solve many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machines can be tainted by other repositories, source-based installs, other custom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 machines can be us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chanism to quickly try the GMOD catalog of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chanism to distribute clean testing and development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 is to have a virtual machine with all the Biopackages-provided tools pre-inst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based on CentOS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prototype CentOS4 machine with Chado 1.0 schema, recent BioPerl, and Turnkey/GMODWeb 1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with Dave Clements on RPMs to create an updated CentOS5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2232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8360" y="9763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gmod.org/wiki/VMWare_HOW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01800" y="1600200"/>
            <a:ext cx="7977240" cy="574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2920" y="2232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Me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2920" y="1120680"/>
            <a:ext cx="907092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urnkey/GMODWeb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oking to expand Java producer to eliminate Perl dependency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opackag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oking for RPM developers (or deb package builders for Ubunt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irtual Machin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oking to create CentOS5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configured GMOD demo/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configured Biopackages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yone using GMOD tools for Next Gen Sequencing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andoconnor@gmai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key i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bsite auto-gen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43160" y="3946680"/>
            <a:ext cx="2151000" cy="1644480"/>
          </a:xfrm>
          <a:prstGeom prst="roundRect">
            <a:avLst>
              <a:gd name="adj" fmla="val 93"/>
            </a:avLst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Q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Cre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t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fo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749920" y="3206880"/>
            <a:ext cx="3581280" cy="3189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41920" y="4859280"/>
            <a:ext cx="1485720" cy="1800"/>
          </a:xfrm>
          <a:prstGeom prst="line">
            <a:avLst/>
          </a:prstGeom>
          <a:ln w="1645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MODWeb i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MODWeb = Turnkey + Chado + Integration w/ other projects (GBrowse, Amigo,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43160" y="3946680"/>
            <a:ext cx="2151000" cy="1644480"/>
          </a:xfrm>
          <a:prstGeom prst="roundRect">
            <a:avLst>
              <a:gd name="adj" fmla="val 93"/>
            </a:avLst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Q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Cre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t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fo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749920" y="3206880"/>
            <a:ext cx="3581280" cy="3189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41920" y="4859280"/>
            <a:ext cx="1485720" cy="1800"/>
          </a:xfrm>
          <a:prstGeom prst="line">
            <a:avLst/>
          </a:prstGeom>
          <a:ln w="1645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6175440"/>
            <a:ext cx="122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05440" y="6605640"/>
            <a:ext cx="20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MOD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8800" y="4257720"/>
            <a:ext cx="9309240" cy="3002040"/>
          </a:xfrm>
          <a:prstGeom prst="roundRect">
            <a:avLst>
              <a:gd name="adj" fmla="val 51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9440" y="339480"/>
            <a:ext cx="860724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3800" y="2251080"/>
            <a:ext cx="2151000" cy="1644480"/>
          </a:xfrm>
          <a:prstGeom prst="roundRect">
            <a:avLst>
              <a:gd name="adj" fmla="val 93"/>
            </a:avLst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Q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Cre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t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fo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02040" y="3146400"/>
            <a:ext cx="1139760" cy="14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4218120" y="2513160"/>
            <a:ext cx="1365120" cy="1371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157640" y="2268360"/>
            <a:ext cx="21225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QL::Trans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56360" y="2195640"/>
            <a:ext cx="20210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ted 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711840" y="2668680"/>
            <a:ext cx="2743200" cy="1217520"/>
            <a:chOff x="6711840" y="2668680"/>
            <a:chExt cx="2743200" cy="1217520"/>
          </a:xfrm>
        </p:grpSpPr>
        <p:sp>
          <p:nvSpPr>
            <p:cNvPr id="70" name=""/>
            <p:cNvSpPr/>
            <p:nvPr/>
          </p:nvSpPr>
          <p:spPr>
            <a:xfrm>
              <a:off x="8236080" y="2668680"/>
              <a:ext cx="457200" cy="457200"/>
            </a:xfrm>
            <a:prstGeom prst="roundRect">
              <a:avLst>
                <a:gd name="adj" fmla="val 347"/>
              </a:avLst>
            </a:prstGeom>
            <a:solidFill>
              <a:srgbClr val="ffff99"/>
            </a:solidFill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997840" y="3429000"/>
              <a:ext cx="457200" cy="457200"/>
            </a:xfrm>
            <a:prstGeom prst="roundRect">
              <a:avLst>
                <a:gd name="adj" fmla="val 347"/>
              </a:avLst>
            </a:prstGeom>
            <a:solidFill>
              <a:srgbClr val="ccffcc"/>
            </a:solidFill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997840" y="2668680"/>
              <a:ext cx="457200" cy="457200"/>
            </a:xfrm>
            <a:prstGeom prst="roundRect">
              <a:avLst>
                <a:gd name="adj" fmla="val 347"/>
              </a:avLst>
            </a:prstGeom>
            <a:solidFill>
              <a:srgbClr val="ccffcc"/>
            </a:solidFill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473960" y="2668680"/>
              <a:ext cx="457200" cy="457200"/>
            </a:xfrm>
            <a:prstGeom prst="roundRect">
              <a:avLst>
                <a:gd name="adj" fmla="val 347"/>
              </a:avLst>
            </a:prstGeom>
            <a:solidFill>
              <a:srgbClr val="ccffcc"/>
            </a:solidFill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473960" y="3429000"/>
              <a:ext cx="457200" cy="457200"/>
            </a:xfrm>
            <a:prstGeom prst="roundRect">
              <a:avLst>
                <a:gd name="adj" fmla="val 347"/>
              </a:avLst>
            </a:prstGeom>
            <a:solidFill>
              <a:srgbClr val="cc99ff"/>
            </a:solidFill>
            <a:ln w="255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711840" y="2668680"/>
              <a:ext cx="457200" cy="457200"/>
            </a:xfrm>
            <a:prstGeom prst="roundRect">
              <a:avLst>
                <a:gd name="adj" fmla="val 347"/>
              </a:avLst>
            </a:prstGeom>
            <a:solidFill>
              <a:srgbClr val="ccffcc"/>
            </a:solidFill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" name=""/>
            <p:cNvCxnSpPr/>
            <p:nvPr/>
          </p:nvCxnSpPr>
          <p:spPr>
            <a:xfrm>
              <a:off x="9226080" y="3125880"/>
              <a:ext cx="2520" cy="305280"/>
            </a:xfrm>
            <a:prstGeom prst="straightConnector1">
              <a:avLst/>
            </a:prstGeom>
            <a:ln w="25560">
              <a:solidFill>
                <a:srgbClr val="00ff00"/>
              </a:solidFill>
              <a:round/>
              <a:tailEnd len="med" type="triangle" w="med"/>
            </a:ln>
          </p:spPr>
        </p:cxnSp>
        <p:cxnSp>
          <p:nvCxnSpPr>
            <p:cNvPr id="77" name=""/>
            <p:cNvCxnSpPr/>
            <p:nvPr/>
          </p:nvCxnSpPr>
          <p:spPr>
            <a:xfrm flipH="1">
              <a:off x="8692920" y="2897280"/>
              <a:ext cx="305280" cy="2160"/>
            </a:xfrm>
            <a:prstGeom prst="straightConnector1">
              <a:avLst/>
            </a:prstGeom>
            <a:ln w="25560">
              <a:solidFill>
                <a:srgbClr val="00ff00"/>
              </a:solidFill>
              <a:round/>
              <a:tailEnd len="med" type="triangle" w="med"/>
            </a:ln>
          </p:spPr>
        </p:cxnSp>
        <p:cxnSp>
          <p:nvCxnSpPr>
            <p:cNvPr id="78" name=""/>
            <p:cNvCxnSpPr/>
            <p:nvPr/>
          </p:nvCxnSpPr>
          <p:spPr>
            <a:xfrm>
              <a:off x="7930800" y="2897280"/>
              <a:ext cx="305640" cy="2160"/>
            </a:xfrm>
            <a:prstGeom prst="straightConnector1">
              <a:avLst/>
            </a:prstGeom>
            <a:ln w="25560">
              <a:solidFill>
                <a:srgbClr val="00ff00"/>
              </a:solidFill>
              <a:round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>
              <a:off x="7550280" y="3138120"/>
              <a:ext cx="2160" cy="292680"/>
            </a:xfrm>
            <a:prstGeom prst="straightConnector1">
              <a:avLst/>
            </a:prstGeom>
            <a:ln w="25560">
              <a:solidFill>
                <a:srgbClr val="00ff00"/>
              </a:solidFill>
              <a:round/>
              <a:tailEnd len="med" type="triangle" w="med"/>
            </a:ln>
          </p:spPr>
        </p:cxnSp>
        <p:cxnSp>
          <p:nvCxnSpPr>
            <p:cNvPr id="80" name=""/>
            <p:cNvCxnSpPr/>
            <p:nvPr/>
          </p:nvCxnSpPr>
          <p:spPr>
            <a:xfrm>
              <a:off x="7854480" y="3125880"/>
              <a:ext cx="2520" cy="305280"/>
            </a:xfrm>
            <a:prstGeom prst="straightConnector1">
              <a:avLst/>
            </a:prstGeom>
            <a:ln w="25560">
              <a:solidFill>
                <a:srgbClr val="00ff00"/>
              </a:solidFill>
              <a:round/>
              <a:tailEnd len="med" type="triangle" w="med"/>
            </a:ln>
          </p:spPr>
        </p:cxnSp>
        <p:cxnSp>
          <p:nvCxnSpPr>
            <p:cNvPr id="81" name=""/>
            <p:cNvCxnSpPr/>
            <p:nvPr/>
          </p:nvCxnSpPr>
          <p:spPr>
            <a:xfrm>
              <a:off x="7702560" y="3125880"/>
              <a:ext cx="2160" cy="305280"/>
            </a:xfrm>
            <a:prstGeom prst="straightConnector1">
              <a:avLst/>
            </a:prstGeom>
            <a:ln w="25560">
              <a:solidFill>
                <a:srgbClr val="00ff00"/>
              </a:solidFill>
              <a:round/>
              <a:tailEnd len="med" type="triangle" w="med"/>
            </a:ln>
          </p:spPr>
        </p:cxnSp>
        <p:cxnSp>
          <p:nvCxnSpPr>
            <p:cNvPr id="82" name=""/>
            <p:cNvCxnSpPr/>
            <p:nvPr/>
          </p:nvCxnSpPr>
          <p:spPr>
            <a:xfrm flipH="1">
              <a:off x="7168680" y="2820960"/>
              <a:ext cx="280080" cy="2160"/>
            </a:xfrm>
            <a:prstGeom prst="straightConnector1">
              <a:avLst/>
            </a:prstGeom>
            <a:ln w="25560">
              <a:solidFill>
                <a:srgbClr val="00ff00"/>
              </a:solidFill>
              <a:round/>
              <a:tailEnd len="med" type="triangle" w="med"/>
            </a:ln>
          </p:spPr>
        </p:cxnSp>
        <p:cxnSp>
          <p:nvCxnSpPr>
            <p:cNvPr id="83" name=""/>
            <p:cNvCxnSpPr/>
            <p:nvPr/>
          </p:nvCxnSpPr>
          <p:spPr>
            <a:xfrm flipH="1">
              <a:off x="7168680" y="2972880"/>
              <a:ext cx="280080" cy="2520"/>
            </a:xfrm>
            <a:prstGeom prst="straightConnector1">
              <a:avLst/>
            </a:prstGeom>
            <a:ln w="25560">
              <a:solidFill>
                <a:srgbClr val="00ff00"/>
              </a:solidFill>
              <a:round/>
              <a:tailEnd len="med" type="triangle" w="med"/>
            </a:ln>
          </p:spPr>
        </p:cxnSp>
      </p:grpSp>
      <p:sp>
        <p:nvSpPr>
          <p:cNvPr id="84" name=""/>
          <p:cNvSpPr/>
          <p:nvPr/>
        </p:nvSpPr>
        <p:spPr>
          <a:xfrm>
            <a:off x="5521320" y="3152880"/>
            <a:ext cx="1139760" cy="14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173040" y="3449520"/>
            <a:ext cx="3971880" cy="12128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424120" y="3824280"/>
            <a:ext cx="1808280" cy="9525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483320" y="4046400"/>
            <a:ext cx="655920" cy="7448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09720" y="4791240"/>
            <a:ext cx="2063520" cy="2135160"/>
            <a:chOff x="909720" y="4791240"/>
            <a:chExt cx="2063520" cy="2135160"/>
          </a:xfrm>
        </p:grpSpPr>
        <p:sp>
          <p:nvSpPr>
            <p:cNvPr id="89" name=""/>
            <p:cNvSpPr/>
            <p:nvPr/>
          </p:nvSpPr>
          <p:spPr>
            <a:xfrm>
              <a:off x="909720" y="4791240"/>
              <a:ext cx="2063520" cy="2135160"/>
            </a:xfrm>
            <a:custGeom>
              <a:avLst/>
              <a:gdLst>
                <a:gd name="textAreaLeft" fmla="*/ 360 w 2063520"/>
                <a:gd name="textAreaRight" fmla="*/ 2063160 w 2063520"/>
                <a:gd name="textAreaTop" fmla="*/ 360 h 2135160"/>
                <a:gd name="textAreaBottom" fmla="*/ 2134800 h 2135160"/>
              </a:gdLst>
              <a:ahLst/>
              <a:rect l="textAreaLeft" t="textAreaTop" r="textAreaRight" b="textAreaBottom"/>
              <a:pathLst>
                <a:path w="21600" h="22350">
                  <a:moveTo>
                    <a:pt x="16" y="0"/>
                  </a:moveTo>
                  <a:arcTo wR="16" hR="16" stAng="16200000" swAng="-5400000"/>
                  <a:lnTo>
                    <a:pt x="0" y="22334"/>
                  </a:lnTo>
                  <a:arcTo wR="16" hR="16" stAng="10800000" swAng="-5400000"/>
                  <a:lnTo>
                    <a:pt x="21584" y="22350"/>
                  </a:lnTo>
                  <a:arcTo wR="16" hR="16" stAng="5400000" swAng="-5400000"/>
                  <a:lnTo>
                    <a:pt x="21600" y="16"/>
                  </a:lnTo>
                  <a:arcTo wR="16" hR="16" stAng="0" swAng="-5400000"/>
                  <a:close/>
                </a:path>
              </a:pathLst>
            </a:custGeom>
            <a:solidFill>
              <a:srgbClr val="e6e6e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79640" y="5940360"/>
              <a:ext cx="461880" cy="750960"/>
            </a:xfrm>
            <a:custGeom>
              <a:avLst/>
              <a:gdLst>
                <a:gd name="textAreaLeft" fmla="*/ 360 w 461880"/>
                <a:gd name="textAreaRight" fmla="*/ 461520 w 461880"/>
                <a:gd name="textAreaTop" fmla="*/ 360 h 750960"/>
                <a:gd name="textAreaBottom" fmla="*/ 750600 h 750960"/>
              </a:gdLst>
              <a:ahLst/>
              <a:rect l="textAreaLeft" t="textAreaTop" r="textAreaRight" b="textAreaBottom"/>
              <a:pathLst>
                <a:path w="21600" h="35108">
                  <a:moveTo>
                    <a:pt x="74" y="0"/>
                  </a:moveTo>
                  <a:arcTo wR="74" hR="74" stAng="16200000" swAng="-5400000"/>
                  <a:lnTo>
                    <a:pt x="0" y="35034"/>
                  </a:lnTo>
                  <a:arcTo wR="74" hR="74" stAng="10800000" swAng="-5400000"/>
                  <a:lnTo>
                    <a:pt x="21526" y="35108"/>
                  </a:lnTo>
                  <a:arcTo wR="74" hR="74" stAng="5400000" swAng="-5400000"/>
                  <a:lnTo>
                    <a:pt x="21600" y="74"/>
                  </a:lnTo>
                  <a:arcTo wR="74" hR="74" stAng="0" swAng="-5400000"/>
                  <a:close/>
                </a:path>
              </a:pathLst>
            </a:custGeom>
            <a:solidFill>
              <a:srgbClr val="99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95480" y="5030640"/>
              <a:ext cx="461880" cy="750960"/>
            </a:xfrm>
            <a:custGeom>
              <a:avLst/>
              <a:gdLst>
                <a:gd name="textAreaLeft" fmla="*/ 360 w 461880"/>
                <a:gd name="textAreaRight" fmla="*/ 461520 w 461880"/>
                <a:gd name="textAreaTop" fmla="*/ 360 h 750960"/>
                <a:gd name="textAreaBottom" fmla="*/ 750600 h 750960"/>
              </a:gdLst>
              <a:ahLst/>
              <a:rect l="textAreaLeft" t="textAreaTop" r="textAreaRight" b="textAreaBottom"/>
              <a:pathLst>
                <a:path w="21600" h="35108">
                  <a:moveTo>
                    <a:pt x="74" y="0"/>
                  </a:moveTo>
                  <a:arcTo wR="74" hR="74" stAng="16200000" swAng="-5400000"/>
                  <a:lnTo>
                    <a:pt x="0" y="35034"/>
                  </a:lnTo>
                  <a:arcTo wR="74" hR="74" stAng="10800000" swAng="-5400000"/>
                  <a:lnTo>
                    <a:pt x="21526" y="35108"/>
                  </a:lnTo>
                  <a:arcTo wR="74" hR="74" stAng="5400000" swAng="-5400000"/>
                  <a:lnTo>
                    <a:pt x="21600" y="74"/>
                  </a:lnTo>
                  <a:arcTo wR="74" hR="74" stAng="0" swAng="-5400000"/>
                  <a:close/>
                </a:path>
              </a:pathLst>
            </a:custGeom>
            <a:solidFill>
              <a:srgbClr val="99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85880" y="5045040"/>
              <a:ext cx="1098720" cy="1650960"/>
            </a:xfrm>
            <a:custGeom>
              <a:avLst/>
              <a:gdLst>
                <a:gd name="textAreaLeft" fmla="*/ 360 w 1098720"/>
                <a:gd name="textAreaRight" fmla="*/ 1098360 w 1098720"/>
                <a:gd name="textAreaTop" fmla="*/ 360 h 1650960"/>
                <a:gd name="textAreaBottom" fmla="*/ 1650600 h 1650960"/>
              </a:gdLst>
              <a:ahLst/>
              <a:rect l="textAreaLeft" t="textAreaTop" r="textAreaRight" b="textAreaBottom"/>
              <a:pathLst>
                <a:path w="21600" h="32453">
                  <a:moveTo>
                    <a:pt x="31" y="0"/>
                  </a:moveTo>
                  <a:arcTo wR="31" hR="31" stAng="16200000" swAng="-5400000"/>
                  <a:lnTo>
                    <a:pt x="0" y="32422"/>
                  </a:lnTo>
                  <a:arcTo wR="31" hR="31" stAng="10800000" swAng="-5400000"/>
                  <a:lnTo>
                    <a:pt x="21569" y="32453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99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4260960" y="5587920"/>
            <a:ext cx="1365120" cy="1371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984480" y="5213520"/>
            <a:ext cx="22752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ping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27160" y="4187880"/>
            <a:ext cx="16938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ML 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 Templ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39960" y="1778040"/>
            <a:ext cx="17524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QL 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7392960" y="5132520"/>
            <a:ext cx="1650960" cy="1376280"/>
            <a:chOff x="7392960" y="5132520"/>
            <a:chExt cx="1650960" cy="1376280"/>
          </a:xfrm>
        </p:grpSpPr>
        <p:grpSp>
          <p:nvGrpSpPr>
            <p:cNvPr id="98" name=""/>
            <p:cNvGrpSpPr/>
            <p:nvPr/>
          </p:nvGrpSpPr>
          <p:grpSpPr>
            <a:xfrm>
              <a:off x="7392960" y="5132520"/>
              <a:ext cx="1650960" cy="1376280"/>
              <a:chOff x="7392960" y="5132520"/>
              <a:chExt cx="1650960" cy="1376280"/>
            </a:xfrm>
          </p:grpSpPr>
          <p:sp>
            <p:nvSpPr>
              <p:cNvPr id="99" name=""/>
              <p:cNvSpPr/>
              <p:nvPr/>
            </p:nvSpPr>
            <p:spPr>
              <a:xfrm>
                <a:off x="7392960" y="5132520"/>
                <a:ext cx="1650960" cy="1376280"/>
              </a:xfrm>
              <a:custGeom>
                <a:avLst/>
                <a:gdLst/>
                <a:ahLst/>
                <a:rect l="l" t="t" r="r" b="b"/>
                <a:pathLst>
                  <a:path w="4584" h="3822">
                    <a:moveTo>
                      <a:pt x="2290" y="0"/>
                    </a:moveTo>
                    <a:cubicBezTo>
                      <a:pt x="1041" y="0"/>
                      <a:pt x="0" y="217"/>
                      <a:pt x="0" y="476"/>
                    </a:cubicBezTo>
                    <a:lnTo>
                      <a:pt x="0" y="3345"/>
                    </a:lnTo>
                    <a:cubicBezTo>
                      <a:pt x="0" y="3604"/>
                      <a:pt x="1041" y="3821"/>
                      <a:pt x="2290" y="3821"/>
                    </a:cubicBezTo>
                    <a:cubicBezTo>
                      <a:pt x="3539" y="3821"/>
                      <a:pt x="4583" y="3604"/>
                      <a:pt x="4583" y="3345"/>
                    </a:cubicBezTo>
                    <a:lnTo>
                      <a:pt x="4583" y="476"/>
                    </a:lnTo>
                    <a:cubicBezTo>
                      <a:pt x="4583" y="217"/>
                      <a:pt x="3541" y="0"/>
                      <a:pt x="2290" y="0"/>
                    </a:cubicBezTo>
                  </a:path>
                </a:pathLst>
              </a:custGeom>
              <a:solidFill>
                <a:srgbClr val="ffcc00"/>
              </a:solidFill>
              <a:ln w="255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392960" y="5132520"/>
                <a:ext cx="1650960" cy="344520"/>
              </a:xfrm>
              <a:custGeom>
                <a:avLst/>
                <a:gdLst/>
                <a:ahLst/>
                <a:rect l="l" t="t" r="r" b="b"/>
                <a:pathLst>
                  <a:path w="4584" h="956">
                    <a:moveTo>
                      <a:pt x="2290" y="0"/>
                    </a:moveTo>
                    <a:cubicBezTo>
                      <a:pt x="1041" y="0"/>
                      <a:pt x="0" y="217"/>
                      <a:pt x="0" y="476"/>
                    </a:cubicBezTo>
                    <a:cubicBezTo>
                      <a:pt x="0" y="735"/>
                      <a:pt x="1041" y="955"/>
                      <a:pt x="2290" y="955"/>
                    </a:cubicBezTo>
                    <a:cubicBezTo>
                      <a:pt x="3539" y="955"/>
                      <a:pt x="4583" y="738"/>
                      <a:pt x="4583" y="476"/>
                    </a:cubicBezTo>
                    <a:cubicBezTo>
                      <a:pt x="4583" y="214"/>
                      <a:pt x="3541" y="0"/>
                      <a:pt x="2290" y="0"/>
                    </a:cubicBezTo>
                  </a:path>
                </a:pathLst>
              </a:custGeom>
              <a:solidFill>
                <a:srgbClr val="ffdf00"/>
              </a:solidFill>
              <a:ln w="255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7394400" y="5467320"/>
              <a:ext cx="1632240" cy="8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264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bjec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48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ngths &amp; Weakn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157040"/>
            <a:ext cx="9070920" cy="5018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prototyping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 tool for active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ly build up-to-date webapps integrated with other GMOD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l dependencies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idiculo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 source of all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design decision to use custom Perl rendering engine limits performance and appeal to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key 1.4 is available and addresses some bugs since the release of the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MODWeb: a web framework for the Generic Model Organism Databas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me Biol. 2008 ; 9(6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he virtual machines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gmod.org/wiki/VMWare_HOW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on Updated RP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turnkey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2232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://Biopackages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98056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packages.net i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pository of software compiled for CentOS (mostly CentOS4) and Fe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um install cha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ed to make it easy to install software depend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pack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4762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143000" y="1600200"/>
            <a:ext cx="7913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y resolution is a huge part of th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07:42:06Z</dcterms:created>
  <dc:creator/>
  <dc:description/>
  <dc:language>en-US</dc:language>
  <cp:lastModifiedBy>Brian O'Connor</cp:lastModifiedBy>
  <dcterms:modified xsi:type="dcterms:W3CDTF">2009-01-16T22:13:12Z</dcterms:modified>
  <cp:revision>13</cp:revision>
  <dc:subject/>
  <dc:title/>
</cp:coreProperties>
</file>